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F9B-6323-4088-9278-CC810170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80D-9824-4925-9190-E4BEF809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AD6-5920-43EC-BEAA-9D868FA5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2DB-D57A-4D21-A483-D0355475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420-74C6-4319-A850-C1FA2E1B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831-173B-4751-AB78-7C64AA5F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FE1-58AF-43F2-9266-4ABFC26B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6A9-CAA0-496A-BF00-85337D36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1EB-7A4C-4988-96B2-D08D8B1B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7E79-D0A7-46ED-B845-055353F1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7F2-C51D-4AB8-A0AB-DC44C9DB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BBC-95B8-4C7C-BF9D-BAF523B2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87DA-D749-453B-A9BF-DB43B842B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956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4876920"/>
            <a:ext cx="6858000" cy="307080"/>
            <a:chOff x="0" y="4876920"/>
            <a:chExt cx="6858000" cy="307080"/>
          </a:xfrm>
        </p:grpSpPr>
        <p:sp>
          <p:nvSpPr>
            <p:cNvPr id="44" name=""/>
            <p:cNvSpPr/>
            <p:nvPr/>
          </p:nvSpPr>
          <p:spPr>
            <a:xfrm>
              <a:off x="0" y="487692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8600" y="487692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600200" y="304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04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0292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5410080"/>
            <a:ext cx="6858000" cy="307080"/>
            <a:chOff x="0" y="5410080"/>
            <a:chExt cx="6858000" cy="307080"/>
          </a:xfrm>
        </p:grpSpPr>
        <p:sp>
          <p:nvSpPr>
            <p:cNvPr id="51" name=""/>
            <p:cNvSpPr/>
            <p:nvPr/>
          </p:nvSpPr>
          <p:spPr>
            <a:xfrm>
              <a:off x="0" y="54100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" y="541008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5627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5943600"/>
            <a:ext cx="6858000" cy="307080"/>
            <a:chOff x="0" y="5943600"/>
            <a:chExt cx="6858000" cy="307080"/>
          </a:xfrm>
        </p:grpSpPr>
        <p:sp>
          <p:nvSpPr>
            <p:cNvPr id="56" name=""/>
            <p:cNvSpPr/>
            <p:nvPr/>
          </p:nvSpPr>
          <p:spPr>
            <a:xfrm>
              <a:off x="0" y="59436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600" y="594360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095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0" y="6477120"/>
            <a:ext cx="6858000" cy="307080"/>
            <a:chOff x="0" y="6477120"/>
            <a:chExt cx="6858000" cy="307080"/>
          </a:xfrm>
        </p:grpSpPr>
        <p:sp>
          <p:nvSpPr>
            <p:cNvPr id="61" name=""/>
            <p:cNvSpPr/>
            <p:nvPr/>
          </p:nvSpPr>
          <p:spPr>
            <a:xfrm>
              <a:off x="0" y="647712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" y="647712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6294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7010280"/>
            <a:ext cx="6858000" cy="307080"/>
            <a:chOff x="0" y="7010280"/>
            <a:chExt cx="6858000" cy="307080"/>
          </a:xfrm>
        </p:grpSpPr>
        <p:sp>
          <p:nvSpPr>
            <p:cNvPr id="66" name=""/>
            <p:cNvSpPr/>
            <p:nvPr/>
          </p:nvSpPr>
          <p:spPr>
            <a:xfrm>
              <a:off x="0" y="70102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" y="701028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1629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7543800"/>
            <a:ext cx="6858000" cy="307080"/>
            <a:chOff x="0" y="7543800"/>
            <a:chExt cx="6858000" cy="307080"/>
          </a:xfrm>
        </p:grpSpPr>
        <p:sp>
          <p:nvSpPr>
            <p:cNvPr id="71" name=""/>
            <p:cNvSpPr/>
            <p:nvPr/>
          </p:nvSpPr>
          <p:spPr>
            <a:xfrm>
              <a:off x="0" y="75438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600" y="754380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76960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0" y="8077320"/>
            <a:ext cx="6858000" cy="307080"/>
            <a:chOff x="0" y="8077320"/>
            <a:chExt cx="6858000" cy="307080"/>
          </a:xfrm>
        </p:grpSpPr>
        <p:sp>
          <p:nvSpPr>
            <p:cNvPr id="76" name=""/>
            <p:cNvSpPr/>
            <p:nvPr/>
          </p:nvSpPr>
          <p:spPr>
            <a:xfrm>
              <a:off x="0" y="807732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8600" y="807732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85345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22960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8610480"/>
            <a:ext cx="6858000" cy="307080"/>
            <a:chOff x="0" y="8610480"/>
            <a:chExt cx="6858000" cy="307080"/>
          </a:xfrm>
        </p:grpSpPr>
        <p:sp>
          <p:nvSpPr>
            <p:cNvPr id="81" name=""/>
            <p:cNvSpPr/>
            <p:nvPr/>
          </p:nvSpPr>
          <p:spPr>
            <a:xfrm>
              <a:off x="0" y="861048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8600" y="8610480"/>
              <a:ext cx="472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t and discard this bottom portio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87472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7:44:39Z</dcterms:created>
  <dc:creator>jholland</dc:creator>
  <dc:description/>
  <dc:language>en-US</dc:language>
  <cp:lastModifiedBy>jholland</cp:lastModifiedBy>
  <dcterms:modified xsi:type="dcterms:W3CDTF">2006-03-21T18:57:49Z</dcterms:modified>
  <cp:revision>3</cp:revision>
  <dc:subject/>
  <dc:title>Slide 1</dc:title>
</cp:coreProperties>
</file>